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23A-83A6-45A5-93C4-0ABB869D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060-4097-4E69-A685-11BE89DD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4EA-4DCE-40FC-889F-9A26B1A7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30D-2CD9-42B3-8F76-8ABC897D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097-28D8-416A-9A9E-CB0E2745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AD5-6AA7-41FE-8E96-844C4870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D0A-4433-4009-86DC-E18CCDC0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56B-1C82-44A6-8747-2F64B76E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74F-E804-46D9-A1F7-6C6E977F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9E9-AD5E-44C2-9DEE-B6B390F9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E0D-66AA-4268-A9AF-07EA3230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137-92E6-4AB5-A74F-CC5AD49C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013D-B7C2-4C49-A6CC-736D893974E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-54000"/>
            <a:ext cx="9612360" cy="722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LLY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acordo com Telma Vinha, doutora em Psicologia Educacional e professora da Faculdade de Educação da Universidade Estadual de Campinas (Unicamp), para ser dada como bullying, a agressão física ou moral precisa apresentar quatro características: a intenção do autor em ferir o alvo, a repetição da agressão, a presença de um público espectador e a concordância do alvo com relação à ofensa. “Quando o alvo supera o motivo da agressão, ele reage ou ignora, desmotivando a ação do autor”, explica a especi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192920" cy="423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426852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684600" cy="2763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915080" y="3284640"/>
            <a:ext cx="4228920" cy="3371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11280" y="3645000"/>
            <a:ext cx="3811320" cy="302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6280" cy="717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32360" y="3860640"/>
            <a:ext cx="3587760" cy="2692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4189320" cy="3141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492360" y="1484280"/>
            <a:ext cx="2738520" cy="205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354480" cy="2516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8360" y="299736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88000" y="620640"/>
            <a:ext cx="3278160" cy="245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569440" cy="642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16360" cy="2748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gas, ofensas, disseminação de comentários maldosos, agressões físicas e psicológicas, repress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escola pode ser palco de todos esses comportamentos, transformando a vida escolar de muitos alunos em algo desprazeroso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2894040" cy="217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4248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única maneira de combater esse tipo de prática é a cooperação por parte de todos os envolvidos: professores, funcionários, alunos e pais: “Todos devem estar de acordo com o compromisso de que o bullying não será mais toler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008600" cy="477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0282320" cy="7712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2688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2968560" cy="222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508720" y="476280"/>
            <a:ext cx="3311280" cy="2482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987640" y="2421000"/>
            <a:ext cx="2820960" cy="211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 DE SETEMBRO DE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E.SENADOR FILINTO MU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41749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estratégias utilizadas devem ser definidas em cada escola, observando-se suas características e as de sua populaçã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35600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incentivo ao protagonismo dos alunos, permitindo sua participação nas decisões e no desenvolvimento do projeto, é uma garantia ainda maior de suces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176720" cy="429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8680" y="885960"/>
            <a:ext cx="4886640" cy="508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quipe Pedagógica Administ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ção Colegi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élio Custódio de Alme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José Pereira das Vin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ora Coordenad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inthya Maria St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5013360"/>
            <a:ext cx="5400720" cy="156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diretrizes do nosso trabalho fundamentam-se na informação, sensibilização, conscientização, mobilização, transformação e integração das famílias que passaram por experiências nesse sentido com crianças e jovens, ou que, inevitavelmente, poderão vir a passar. O foco dos nossos objetivos está direcionado em ações conjuntas com escolas, através de oficinas culturais, cursos, campeonatos e atividades educativas, que visam estimular as crianças e jovens contra esse tipo de violência que vem crescendo no nosso cotidia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04640"/>
            <a:ext cx="1266840" cy="857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549360"/>
            <a:ext cx="1266840" cy="857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5805360"/>
            <a:ext cx="1266840" cy="85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24720" y="5805360"/>
            <a:ext cx="1266840" cy="85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sso objetivo, também, visa a conscientização de um maior número possível de pessoas e, que nenhum ser humano vive isolado em uma ilha, pois todos nós dependemos uns dos outr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04640"/>
            <a:ext cx="1266840" cy="857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5300640"/>
            <a:ext cx="1266840" cy="857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476280"/>
            <a:ext cx="1266480" cy="857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7164360" y="5300640"/>
            <a:ext cx="1266840" cy="85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LLY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acordo com o dicionário Aulete de língua portuguesa, o termo bullying “compreende toda forma de agressão, intencional e repetida, sem motivo aparente, em que se faz uso do poder ou força para intimidar ou perseguir alguém, que pode ficar traumatizado, com baixa autoestima ou problemas de relacionamento”. O termo bullying tem origem na palavra ingles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ully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que significa valentão, brigão. É entendido como ameaça, tirania, opressão, intimidação, humilhação e maltr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105440" cy="4160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LLY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bullying sempre existiu, mas foi no final da década de 1970 que Dan Olweus, um professor da Universidade da Noruega, passou a estudar as tendências suicidas entre adolescentes e percebeu que a maioria desses jovens tinha sofrido algum tipo de ameaça e que, portanto, o bullying era um mal a se combater. Hoje, o fenômeno está mais popular, está mais visível com a influência dos meios eletrônicos, com a internet e com a televi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340160" cy="428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6:23:15Z</dcterms:created>
  <dc:creator>Microsoft</dc:creator>
  <dc:description/>
  <dc:language>en-US</dc:language>
  <cp:lastModifiedBy>Microsoft</cp:lastModifiedBy>
  <dcterms:modified xsi:type="dcterms:W3CDTF">2011-09-22T19:31:54Z</dcterms:modified>
  <cp:revision>26</cp:revision>
  <dc:subject/>
  <dc:title>Slide 1</dc:title>
</cp:coreProperties>
</file>